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3908D-C95C-446A-A0D6-719615DAF66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s revisited (and eth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going further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3 Carboxylic acids and their deriv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s revisited (and eth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going further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3 Carboxylic acids and their deriv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ing practi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 these stru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ut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ct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ntanedi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nzene-1,2-dicarboxyl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ing practi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ese stru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t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tanedi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zene-1,2-dicarboxyl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logous series containing the OH hydroxyl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names end in ol eg methanol, ethanol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mers are possible for alcohols containing 3 or more carb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el position of OH group so that it has the lowest number pos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hydric alcohols contain more than one OH group eg propane- 1,2,3,tri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H groups attached to benzene rings are called pheno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logous series containing the OH hydroxyl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names end in ol eg methanol, ethanol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mers are possible for alcohols containing 3 or more carb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el position of OH group so that it has the lowest number pos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hydric alcohols contain more than one OH group eg propane- 1,2,3,tri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H groups attached to benzene rings are called pheno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al properties of alcoh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are polar, in the O-H bond, O is - and H is 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have attractive forces between the molecules called hydrogen bonds, not as strong as covalent b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oiling point than corresponding alka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bonds form between alcohol and water molecules therefore they are miscible / solu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chain alcohols are less solu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al properties of alcoh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are polar, in the O-H bond, O is - and H is 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have attractive forces between the molecules called hydrogen bonds, not as strong as covalent b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oiling point than corresponding alka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bonds form between alcohol and water molecules therefore they are miscible / solu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chain alcohols are less solu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eral formula R-O-R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-R’ alkoxy group substituted for H e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3-CH2-CH2-O-CH3 methoxyprop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nger hydrocarbon chain is parent alkane for nam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formula R-O-R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-R’ alkoxy group substituted for H e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3-CH2-CH2-O-CH3 methoxyprop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er hydrocarbon chain is parent alkane for nam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al properties of ethe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only slightly pol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hydrogen on the oxygen atoms to form hydrogen bonds – only weak forces of attraction between molec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s similar to corresponding alk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r ethers, very volatile, highly flamm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slightly soluble in water, mix well with other non-polar solvents eg alkanes. (Like dissolves lik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al properties of ethe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only slightly pol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hydrogen on the oxygen atoms to form hydrogen bonds – only weak forces of attraction between molec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s similar to corresponding alk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r ethers, very volatile, highly flamm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slightly soluble in water, mix well with other non-polar solvents eg alkanes. (Like dissolves lik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ic acid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ula -CO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atoms not joined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formula when rest of structure is an      alkyl group R-COO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ic acid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ula -CO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atoms not joined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formula when rest of structure is an      alkyl group R-COO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ing carboxylic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k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4 meth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3 -CH3 eth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3-CH2-CH3 prop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3-CH(CH3)-CH2-CH3  2-methylbut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rboxylic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-COOH meth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3 -COOH ethanoic aci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3-CH2-COOH prop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3-CH(CH3)-CH2-COOH 3-methylbut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ing carboxylic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4 meth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3 -CH3 eth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3-CH2-CH3 prop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3-CH(CH3)-CH2-CH3  2-methylbut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ic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-COOH meth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3 -COOH ethanoic aci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3-CH2-COOH prop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3-CH(CH3)-CH2-COOH 3-methylbut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ing more complex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wo carboxylic acid groups -dio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rboxyl group can be attached to a benzene ring eg benzenecarboxylic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thanedi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panedi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nzenecarboxylic acid  (benzoic aci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nzene-1,4-dicarboxyl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ing more complex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carboxylic acid groups -dio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 group can be attached to a benzene ring eg benzenecarboxylic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hanedi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anedi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zenecarboxylic acid  (benzoic aci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zene-1,4-dicarboxyl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ic acid deriv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-OH group is replaced carboxylic acid derivatives are form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ic acid deriv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-OH group is replaced carboxylic acid derivatives are form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62FD-BCF6-4E3C-898E-E9A83278D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DD28-DBDA-4260-9A2B-37E09B385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A9CE-3BD9-43AE-ABCD-1EBA09761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E7A5-DF36-4EA6-9D00-6B65238D9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B0DE-4917-4A40-8CFB-5CCAFE99A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4F3C-E919-4C0E-9232-C028E1A2A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8C4A-E829-4AC0-A995-E837098D5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BB7E-25B8-4148-BDA8-C6EFECF23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EC40-FE49-4D1E-A154-C9D2CEAD4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236C-B800-45ED-8FF2-CFCDE4B7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833B-51EE-4E29-8543-DDD12A52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4DFF-1D77-4B9A-B042-9B368C2B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D1D65-3DCA-4C9B-888E-F682E4B0F7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cohols revisited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and ethe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142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d going further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13.3 Carboxylic acids and their deriva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Object 4"/>
          <p:cNvGraphicFramePr/>
          <p:nvPr/>
        </p:nvGraphicFramePr>
        <p:xfrm>
          <a:off x="609480" y="1600200"/>
          <a:ext cx="2133720" cy="17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00200"/>
                    <a:ext cx="2133720" cy="17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5"/>
          <p:cNvGraphicFramePr/>
          <p:nvPr/>
        </p:nvGraphicFramePr>
        <p:xfrm>
          <a:off x="6477120" y="4114800"/>
          <a:ext cx="1635120" cy="205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4114800"/>
                    <a:ext cx="163512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aming practis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1911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ame these stru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4" descr="structure a"/>
          <p:cNvPicPr/>
          <p:nvPr/>
        </p:nvPicPr>
        <p:blipFill>
          <a:blip r:embed="rId1"/>
          <a:stretch/>
        </p:blipFill>
        <p:spPr>
          <a:xfrm>
            <a:off x="914400" y="2209680"/>
            <a:ext cx="2681280" cy="10191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1143000" y="32004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tano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6" descr="structur b"/>
          <p:cNvPicPr/>
          <p:nvPr/>
        </p:nvPicPr>
        <p:blipFill>
          <a:blip r:embed="rId2"/>
          <a:stretch/>
        </p:blipFill>
        <p:spPr>
          <a:xfrm>
            <a:off x="4267080" y="2170080"/>
            <a:ext cx="3962520" cy="10065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7"/>
          <p:cNvSpPr/>
          <p:nvPr/>
        </p:nvSpPr>
        <p:spPr>
          <a:xfrm>
            <a:off x="5410080" y="3200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ctano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8" descr="structure c"/>
          <p:cNvPicPr/>
          <p:nvPr/>
        </p:nvPicPr>
        <p:blipFill>
          <a:blip r:embed="rId3"/>
          <a:stretch/>
        </p:blipFill>
        <p:spPr>
          <a:xfrm>
            <a:off x="380880" y="3962520"/>
            <a:ext cx="3810240" cy="12650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9"/>
          <p:cNvSpPr/>
          <p:nvPr/>
        </p:nvSpPr>
        <p:spPr>
          <a:xfrm>
            <a:off x="1447920" y="53341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entanedio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structure d"/>
          <p:cNvPicPr/>
          <p:nvPr/>
        </p:nvPicPr>
        <p:blipFill>
          <a:blip r:embed="rId4"/>
          <a:stretch/>
        </p:blipFill>
        <p:spPr>
          <a:xfrm>
            <a:off x="5105520" y="3886200"/>
            <a:ext cx="2590560" cy="17874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1"/>
          <p:cNvSpPr/>
          <p:nvPr/>
        </p:nvSpPr>
        <p:spPr>
          <a:xfrm>
            <a:off x="5257800" y="563868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nzene-1,2-dicarboxyl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coh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homologous series containing the OH hydroxyl grou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all names end in </a:t>
            </a:r>
            <a:r>
              <a:rPr b="1" i="1" lang="en-GB" sz="2800" spc="-1" strike="noStrike">
                <a:solidFill>
                  <a:srgbClr val="000000"/>
                </a:solidFill>
                <a:latin typeface="Garamond"/>
              </a:rPr>
              <a:t>ol</a:t>
            </a: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 eg methanol, ethanol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isomers are possible for alcohols containing 3 or more carb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label position of OH group so that it has the lowest number poss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polyhydric alcohols contain more than one OH group eg </a:t>
            </a:r>
            <a:r>
              <a:rPr b="1" i="1" lang="en-GB" sz="2800" spc="-1" strike="noStrike">
                <a:solidFill>
                  <a:srgbClr val="000000"/>
                </a:solidFill>
                <a:latin typeface="Garamond"/>
              </a:rPr>
              <a:t>propane- 1,2,3,tri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OH groups attached to benzene rings are called </a:t>
            </a:r>
            <a:r>
              <a:rPr b="1" i="1" lang="en-GB" sz="2800" spc="-1" strike="noStrike">
                <a:solidFill>
                  <a:srgbClr val="000000"/>
                </a:solidFill>
                <a:latin typeface="Garamond"/>
              </a:rPr>
              <a:t>pheno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hysical properties of alcoh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lecules are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polar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n the O-H bond,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 is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 is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lecules have attractive forces between the molecules called hydrogen bonds, not as strong as covalent bo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Higher boiling point than corresponding alka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Hydrogen bonds form between alcohol and water molecules therefore they are miscible / solu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Long chain alcohols are less solu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General formula R-O-R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Garamond"/>
              </a:rPr>
              <a:t>O-R’ alkoxy group substituted for H e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Garamond"/>
              </a:rPr>
              <a:t>CH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Garamond"/>
              </a:rPr>
              <a:t>3</a:t>
            </a:r>
            <a:r>
              <a:rPr b="0" lang="en-GB" sz="3600" spc="-1" strike="noStrike">
                <a:solidFill>
                  <a:srgbClr val="000000"/>
                </a:solidFill>
                <a:latin typeface="Garamond"/>
              </a:rPr>
              <a:t>-CH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en-GB" sz="3600" spc="-1" strike="noStrike">
                <a:solidFill>
                  <a:srgbClr val="000000"/>
                </a:solidFill>
                <a:latin typeface="Garamond"/>
              </a:rPr>
              <a:t>-CH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en-GB" sz="3600" spc="-1" strike="noStrike">
                <a:solidFill>
                  <a:srgbClr val="000000"/>
                </a:solidFill>
                <a:latin typeface="Garamond"/>
              </a:rPr>
              <a:t>-O-CH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Garamond"/>
              </a:rPr>
              <a:t>3 </a:t>
            </a:r>
            <a:r>
              <a:rPr b="0" lang="en-GB" sz="3600" spc="-1" strike="noStrike">
                <a:solidFill>
                  <a:srgbClr val="000000"/>
                </a:solidFill>
                <a:latin typeface="Garamond"/>
              </a:rPr>
              <a:t>methoxypropa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Garamond"/>
              </a:rPr>
              <a:t>Longer hydrocarbon chain is parent alkane for nam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hysical properties of ether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Molecules only slightly pol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No hydrogen on the oxygen atoms to form hydrogen bonds – only weak forces of attraction between molecule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Boiling points similar to corresponding alkan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Lower ethers, very volatile, highly flammabl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Only slightly soluble in water, mix well with other non-polar solvents eg alkanes. (Like dissolves like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arboxylic acid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ormula -COO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xygen atoms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joined toge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neral formula when rest of structure is an      alkyl group R-COO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Group 5"/>
          <p:cNvGrpSpPr/>
          <p:nvPr/>
        </p:nvGrpSpPr>
        <p:grpSpPr>
          <a:xfrm>
            <a:off x="5181480" y="2133720"/>
            <a:ext cx="2895480" cy="3047760"/>
            <a:chOff x="5181480" y="2133720"/>
            <a:chExt cx="2895480" cy="3047760"/>
          </a:xfrm>
        </p:grpSpPr>
        <p:sp>
          <p:nvSpPr>
            <p:cNvPr id="65" name="WordArt 6"/>
            <p:cNvSpPr txBox="1"/>
            <p:nvPr/>
          </p:nvSpPr>
          <p:spPr>
            <a:xfrm>
              <a:off x="6035760" y="3373560"/>
              <a:ext cx="438840" cy="878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 Black"/>
                </a:rPr>
                <a:t>C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6" name="WordArt 7"/>
            <p:cNvSpPr txBox="1"/>
            <p:nvPr/>
          </p:nvSpPr>
          <p:spPr>
            <a:xfrm>
              <a:off x="6890400" y="2133720"/>
              <a:ext cx="474480" cy="878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  <a:ea typeface="Arial Black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7032960" y="4303440"/>
              <a:ext cx="1044000" cy="878040"/>
              <a:chOff x="7032960" y="4303440"/>
              <a:chExt cx="1044000" cy="878040"/>
            </a:xfrm>
          </p:grpSpPr>
          <p:sp>
            <p:nvSpPr>
              <p:cNvPr id="68" name="WordArt 9"/>
              <p:cNvSpPr txBox="1"/>
              <p:nvPr/>
            </p:nvSpPr>
            <p:spPr>
              <a:xfrm>
                <a:off x="7032960" y="4303440"/>
                <a:ext cx="474480" cy="878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ff"/>
                    </a:solidFill>
                    <a:latin typeface="Arial Black"/>
                  </a:rPr>
                  <a:t>O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69" name="WordArt 10"/>
              <p:cNvSpPr txBox="1"/>
              <p:nvPr/>
            </p:nvSpPr>
            <p:spPr>
              <a:xfrm>
                <a:off x="7602480" y="4303440"/>
                <a:ext cx="474480" cy="878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ff"/>
                    </a:solidFill>
                    <a:latin typeface="Arial Black"/>
                  </a:rPr>
                  <a:t>H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70" name="Line 11"/>
            <p:cNvSpPr/>
            <p:nvPr/>
          </p:nvSpPr>
          <p:spPr>
            <a:xfrm>
              <a:off x="5181480" y="3683520"/>
              <a:ext cx="711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Group 12"/>
            <p:cNvGrpSpPr/>
            <p:nvPr/>
          </p:nvGrpSpPr>
          <p:grpSpPr>
            <a:xfrm>
              <a:off x="6462720" y="2908440"/>
              <a:ext cx="484920" cy="549720"/>
              <a:chOff x="6462720" y="2908440"/>
              <a:chExt cx="484920" cy="549720"/>
            </a:xfrm>
          </p:grpSpPr>
          <p:sp>
            <p:nvSpPr>
              <p:cNvPr id="72" name="Line 13"/>
              <p:cNvSpPr/>
              <p:nvPr/>
            </p:nvSpPr>
            <p:spPr>
              <a:xfrm flipH="1">
                <a:off x="6462720" y="2908440"/>
                <a:ext cx="427320" cy="464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Line 14"/>
              <p:cNvSpPr/>
              <p:nvPr/>
            </p:nvSpPr>
            <p:spPr>
              <a:xfrm flipH="1">
                <a:off x="6520680" y="2993400"/>
                <a:ext cx="426960" cy="464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" name="Line 15"/>
            <p:cNvSpPr/>
            <p:nvPr/>
          </p:nvSpPr>
          <p:spPr>
            <a:xfrm>
              <a:off x="6544440" y="4159440"/>
              <a:ext cx="427320" cy="464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Text Box 16"/>
          <p:cNvSpPr/>
          <p:nvPr/>
        </p:nvSpPr>
        <p:spPr>
          <a:xfrm>
            <a:off x="5715000" y="54100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Carboxyl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aming carboxylic ac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Alka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meth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th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pa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CH(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-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 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methylbut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495680" y="1599840"/>
            <a:ext cx="4191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Times New Roman"/>
              </a:rPr>
              <a:t>Carboxylic ac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-COOH methanoic a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COOH ethanoic acid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COOH propanoic a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CH(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-C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COOH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3-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thylbutanoic a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aming more complex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wo carboxylic acid groups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-dio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9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rboxyl group can be attached to a benzene ring eg benzenecarboxylic ac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Group 8"/>
          <p:cNvGrpSpPr/>
          <p:nvPr/>
        </p:nvGrpSpPr>
        <p:grpSpPr>
          <a:xfrm>
            <a:off x="7162920" y="1905120"/>
            <a:ext cx="990000" cy="806040"/>
            <a:chOff x="7162920" y="1905120"/>
            <a:chExt cx="990000" cy="806040"/>
          </a:xfrm>
        </p:grpSpPr>
        <p:sp>
          <p:nvSpPr>
            <p:cNvPr id="82" name="WordArt 5"/>
            <p:cNvSpPr txBox="1"/>
            <p:nvPr/>
          </p:nvSpPr>
          <p:spPr>
            <a:xfrm>
              <a:off x="7170120" y="1905120"/>
              <a:ext cx="982800" cy="273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</a:rPr>
                <a:t>COOH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3" name="WordArt 6"/>
            <p:cNvSpPr txBox="1"/>
            <p:nvPr/>
          </p:nvSpPr>
          <p:spPr>
            <a:xfrm>
              <a:off x="7162920" y="2437560"/>
              <a:ext cx="982800" cy="273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</a:rPr>
                <a:t>COOH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4" name="Line 7"/>
            <p:cNvSpPr/>
            <p:nvPr/>
          </p:nvSpPr>
          <p:spPr>
            <a:xfrm>
              <a:off x="7277400" y="2230560"/>
              <a:ext cx="0" cy="15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Text Box 9"/>
          <p:cNvSpPr/>
          <p:nvPr/>
        </p:nvSpPr>
        <p:spPr>
          <a:xfrm>
            <a:off x="6858000" y="274320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ethanedioic ac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Group 19"/>
          <p:cNvGrpSpPr/>
          <p:nvPr/>
        </p:nvGrpSpPr>
        <p:grpSpPr>
          <a:xfrm>
            <a:off x="4495680" y="4343400"/>
            <a:ext cx="1054080" cy="1066320"/>
            <a:chOff x="4495680" y="4343400"/>
            <a:chExt cx="1054080" cy="1066320"/>
          </a:xfrm>
        </p:grpSpPr>
        <p:grpSp>
          <p:nvGrpSpPr>
            <p:cNvPr id="87" name="Group 17"/>
            <p:cNvGrpSpPr/>
            <p:nvPr/>
          </p:nvGrpSpPr>
          <p:grpSpPr>
            <a:xfrm>
              <a:off x="4495680" y="4343400"/>
              <a:ext cx="1054080" cy="1066320"/>
              <a:chOff x="4495680" y="4343400"/>
              <a:chExt cx="1054080" cy="1066320"/>
            </a:xfrm>
          </p:grpSpPr>
          <p:sp>
            <p:nvSpPr>
              <p:cNvPr id="88" name="WordArt 12"/>
              <p:cNvSpPr txBox="1"/>
              <p:nvPr/>
            </p:nvSpPr>
            <p:spPr>
              <a:xfrm>
                <a:off x="4495680" y="4343400"/>
                <a:ext cx="1054080" cy="2383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 Black"/>
                  </a:rPr>
                  <a:t>COOH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89" name="WordArt 13"/>
              <p:cNvSpPr txBox="1"/>
              <p:nvPr/>
            </p:nvSpPr>
            <p:spPr>
              <a:xfrm>
                <a:off x="4495680" y="5171400"/>
                <a:ext cx="1054080" cy="2383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 Black"/>
                  </a:rPr>
                  <a:t>COOH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90" name="Line 14"/>
              <p:cNvSpPr/>
              <p:nvPr/>
            </p:nvSpPr>
            <p:spPr>
              <a:xfrm>
                <a:off x="4628880" y="4602240"/>
                <a:ext cx="0" cy="135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WordArt 15"/>
              <p:cNvSpPr txBox="1"/>
              <p:nvPr/>
            </p:nvSpPr>
            <p:spPr>
              <a:xfrm>
                <a:off x="4495680" y="4757400"/>
                <a:ext cx="532440" cy="217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 Black"/>
                  </a:rPr>
                  <a:t>CH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92" name="Line 16"/>
              <p:cNvSpPr/>
              <p:nvPr/>
            </p:nvSpPr>
            <p:spPr>
              <a:xfrm>
                <a:off x="4628880" y="5016240"/>
                <a:ext cx="0" cy="135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" name="WordArt 18"/>
            <p:cNvSpPr txBox="1"/>
            <p:nvPr/>
          </p:nvSpPr>
          <p:spPr>
            <a:xfrm>
              <a:off x="5094720" y="4912920"/>
              <a:ext cx="131760" cy="16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</a:rPr>
                <a:t>2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94" name="Text Box 20"/>
          <p:cNvSpPr/>
          <p:nvPr/>
        </p:nvSpPr>
        <p:spPr>
          <a:xfrm>
            <a:off x="4191120" y="556272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propanedioic ac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Group 37"/>
          <p:cNvGrpSpPr/>
          <p:nvPr/>
        </p:nvGrpSpPr>
        <p:grpSpPr>
          <a:xfrm>
            <a:off x="4419000" y="1600200"/>
            <a:ext cx="1448280" cy="1823040"/>
            <a:chOff x="4419000" y="1600200"/>
            <a:chExt cx="1448280" cy="1823040"/>
          </a:xfrm>
        </p:grpSpPr>
        <p:grpSp>
          <p:nvGrpSpPr>
            <p:cNvPr id="96" name="Group 35"/>
            <p:cNvGrpSpPr/>
            <p:nvPr/>
          </p:nvGrpSpPr>
          <p:grpSpPr>
            <a:xfrm>
              <a:off x="4419000" y="1600200"/>
              <a:ext cx="1448280" cy="1514160"/>
              <a:chOff x="4419000" y="1600200"/>
              <a:chExt cx="1448280" cy="1514160"/>
            </a:xfrm>
          </p:grpSpPr>
          <p:grpSp>
            <p:nvGrpSpPr>
              <p:cNvPr id="97" name="Group 33"/>
              <p:cNvGrpSpPr/>
              <p:nvPr/>
            </p:nvGrpSpPr>
            <p:grpSpPr>
              <a:xfrm>
                <a:off x="4419000" y="1904760"/>
                <a:ext cx="687240" cy="1209600"/>
                <a:chOff x="4419000" y="1904760"/>
                <a:chExt cx="687240" cy="1209600"/>
              </a:xfrm>
            </p:grpSpPr>
            <p:grpSp>
              <p:nvGrpSpPr>
                <p:cNvPr id="98" name="Group 28"/>
                <p:cNvGrpSpPr/>
                <p:nvPr/>
              </p:nvGrpSpPr>
              <p:grpSpPr>
                <a:xfrm>
                  <a:off x="4419000" y="2132640"/>
                  <a:ext cx="687240" cy="763560"/>
                  <a:chOff x="4419000" y="2132640"/>
                  <a:chExt cx="687240" cy="763560"/>
                </a:xfrm>
              </p:grpSpPr>
              <p:sp>
                <p:nvSpPr>
                  <p:cNvPr id="99" name="AutoShape 24"/>
                  <p:cNvSpPr/>
                  <p:nvPr/>
                </p:nvSpPr>
                <p:spPr>
                  <a:xfrm rot="16207200">
                    <a:off x="4381560" y="2171160"/>
                    <a:ext cx="762120" cy="685800"/>
                  </a:xfrm>
                  <a:prstGeom prst="hexagon">
                    <a:avLst>
                      <a:gd name="adj" fmla="val 27782"/>
                      <a:gd name="vf" fmla="val 11547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          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Oval 25"/>
                  <p:cNvSpPr/>
                  <p:nvPr/>
                </p:nvSpPr>
                <p:spPr>
                  <a:xfrm rot="16207200">
                    <a:off x="4532400" y="2285640"/>
                    <a:ext cx="457200" cy="4572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        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1" name="Line 30"/>
                <p:cNvSpPr/>
                <p:nvPr/>
              </p:nvSpPr>
              <p:spPr>
                <a:xfrm flipV="1">
                  <a:off x="4772160" y="190476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Line 32"/>
                <p:cNvSpPr/>
                <p:nvPr/>
              </p:nvSpPr>
              <p:spPr>
                <a:xfrm flipV="1">
                  <a:off x="4775040" y="288576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" name="Text Box 34"/>
              <p:cNvSpPr/>
              <p:nvPr/>
            </p:nvSpPr>
            <p:spPr>
              <a:xfrm>
                <a:off x="4648320" y="1600200"/>
                <a:ext cx="12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COO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" name="Text Box 36"/>
            <p:cNvSpPr/>
            <p:nvPr/>
          </p:nvSpPr>
          <p:spPr>
            <a:xfrm>
              <a:off x="4635360" y="302436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OO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Group 48"/>
          <p:cNvGrpSpPr/>
          <p:nvPr/>
        </p:nvGrpSpPr>
        <p:grpSpPr>
          <a:xfrm>
            <a:off x="6933600" y="3505320"/>
            <a:ext cx="1448280" cy="1295640"/>
            <a:chOff x="6933600" y="3505320"/>
            <a:chExt cx="1448280" cy="1295640"/>
          </a:xfrm>
        </p:grpSpPr>
        <p:grpSp>
          <p:nvGrpSpPr>
            <p:cNvPr id="106" name="Group 41"/>
            <p:cNvGrpSpPr/>
            <p:nvPr/>
          </p:nvGrpSpPr>
          <p:grpSpPr>
            <a:xfrm>
              <a:off x="6933600" y="4037400"/>
              <a:ext cx="687240" cy="763560"/>
              <a:chOff x="6933600" y="4037400"/>
              <a:chExt cx="687240" cy="763560"/>
            </a:xfrm>
          </p:grpSpPr>
          <p:sp>
            <p:nvSpPr>
              <p:cNvPr id="107" name="AutoShape 42"/>
              <p:cNvSpPr/>
              <p:nvPr/>
            </p:nvSpPr>
            <p:spPr>
              <a:xfrm rot="16207200">
                <a:off x="6896160" y="4075920"/>
                <a:ext cx="762120" cy="685800"/>
              </a:xfrm>
              <a:prstGeom prst="hexagon">
                <a:avLst>
                  <a:gd name="adj" fmla="val 27782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       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Oval 43"/>
              <p:cNvSpPr/>
              <p:nvPr/>
            </p:nvSpPr>
            <p:spPr>
              <a:xfrm rot="16207200">
                <a:off x="7047000" y="4190400"/>
                <a:ext cx="45720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     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" name="Line 44"/>
            <p:cNvSpPr/>
            <p:nvPr/>
          </p:nvSpPr>
          <p:spPr>
            <a:xfrm flipV="1">
              <a:off x="7286760" y="380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 Box 46"/>
            <p:cNvSpPr/>
            <p:nvPr/>
          </p:nvSpPr>
          <p:spPr>
            <a:xfrm>
              <a:off x="7162920" y="350532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COO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Text Box 49"/>
          <p:cNvSpPr/>
          <p:nvPr/>
        </p:nvSpPr>
        <p:spPr>
          <a:xfrm>
            <a:off x="6553080" y="4952880"/>
            <a:ext cx="236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benzenecarboxylic acid  (benzoic ac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50"/>
          <p:cNvSpPr/>
          <p:nvPr/>
        </p:nvSpPr>
        <p:spPr>
          <a:xfrm>
            <a:off x="4038480" y="342900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benzene-1,4-dicarboxylic ac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arboxylic acid deriv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the -OH group is replaced carboxylic acid derivatives are form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derivatives"/>
          <p:cNvPicPr/>
          <p:nvPr/>
        </p:nvPicPr>
        <p:blipFill>
          <a:blip r:embed="rId1"/>
          <a:stretch/>
        </p:blipFill>
        <p:spPr>
          <a:xfrm>
            <a:off x="380880" y="2247840"/>
            <a:ext cx="838224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5T19:56:30Z</dcterms:created>
  <dc:creator>M Tyrrell</dc:creator>
  <dc:description/>
  <dc:language>en-US</dc:language>
  <cp:lastModifiedBy>RomaK</cp:lastModifiedBy>
  <dcterms:modified xsi:type="dcterms:W3CDTF">2015-09-01T16:19:51Z</dcterms:modified>
  <cp:revision>18</cp:revision>
  <dc:subject/>
  <dc:title>Alcohols and ethers</dc:title>
</cp:coreProperties>
</file>